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applause.wav" ContentType="audio/x-wav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426-03F8-4C2B-81AF-3AC3CCA8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CDC8-5478-42A4-B2FA-AC17C60B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4AA-BC9E-4D2F-9A3C-CBE30162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92A-7093-4FD4-A0E3-3D8A0A1C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A47A9-3AA3-4144-92CE-420833F7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D1085-4C41-429C-BD65-92C61937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D983B-3D5F-4C51-A366-ADA74158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D5215-AA84-499B-B5A0-95F71D65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89160-C43D-436C-B316-5E744CD2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4C0E9-C344-4BDB-9034-837C5D8E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C048C-41E2-44C1-BB53-D9AF3C5F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5D34-6392-4C0D-8BF9-403CF326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5EAFF-EB6C-439D-807F-D16E5668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427B2-C381-4786-9AE6-FE6AE10D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71FE9-FC8D-493F-BF64-E9418B28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A95A3-55C0-41A3-A733-CFFDE413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9A184-CF00-417B-BCB8-AD55BE8D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70215-04EE-4999-A981-1A815FAC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704B5-7F50-41EE-81F5-0B12CEF9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70D59-3F99-4411-BD81-4279CA22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BF8D5-7D08-4673-91F1-22179735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A1AF5-A44E-4251-A9F0-9D055DE0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7F8B-A4DA-4FFE-B216-A9FAA53F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613B7-DB92-4984-A216-EF411869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B9910-75F7-4113-B8F0-A8875485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EB127-87F9-4704-A539-AAC03258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40EC2-2838-424B-8443-F89CBBCF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216BC-1BF8-47DD-8BDC-12B1509B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E4D93-E6EE-4135-9FA0-0765BB85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74CA6-ECBB-48F2-815B-15A8CC95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DFC76-C123-4F05-86E4-6C33BC48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ED854-176D-4EAD-BF13-B0EBAB0B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7B1E0-57B2-4781-BEF8-AF62517E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4969-20A5-4C88-921F-DC71FE2A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389C7-E627-4B98-8070-5D200BEB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E9268-66C3-44C6-BFEF-396FFF18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97A3F-F837-4B24-A0C5-185863E8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29787-F0C2-4D58-98F1-A2D64FA0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90479-0216-447D-A670-8F0CF309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60840-FEEC-42BE-A46F-D7B17E9B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DDED1-E0A6-42AB-97AB-F5A72B1A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2619F-4A18-44BF-AC6C-6AF128DC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11C05-6E75-40AA-859E-F37D6C93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91DC-75EB-4E82-ADCA-A4625EFD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DF8-96C6-4198-9229-996BF984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DF8-EEEC-49A5-85AA-C6C40F72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7040-B1E1-4854-845D-B8281FC5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D067-0AF5-4B29-87A3-921938FD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E553-F92F-4DB0-B06D-26C0B20E8F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B766-E826-4E5C-8B9A-7C4DA55BDE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97DA-ED81-496D-A890-BC93385F7F5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9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0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1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ABF1-54E5-4BC2-ACF3-70176FDFBD0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enry’s freedom box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5238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told by: Riley Jans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zoom dir="in"/>
    <p:sndAc>
      <p:stSnd>
        <p:snd r:embed="rId1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-0.00208 -0.00439 C 0.00486 -0.0178 0.01198 -0.03237 0.01893 -0.05111 C 0.03785 -0.1043 0.04289 -0.15633 0.029 -0.16443 C 0.01493 -0.17368 -0.01215 -0.13644 -0.03107 -0.08302 C -0.04114 -0.05504 -0.04705 -0.02844 -0.04913 -0.00832 C -0.05208 0.00764 -0.05312 0.02359 -0.05312 0.04233 C -0.05312 0.10222 -0.0401 0.15172 -0.025 0.15172 C -0.01007 0.15172 0.00295 0.10222 0.00295 0.04233 C 0.00295 0.01434 -3.33332999999988E-006 -0.01248 -0.00503 -0.03099 C -0.00711 -0.04717 -0.01215 -0.06429 -0.01805 -0.08163 C -0.03802 -0.13644 -0.0651 -0.17368 -0.07916 -0.16443 C -0.09305 -0.15494 -0.08802 -0.1043 -0.06805 -0.04972 C -0.06007 -0.02428 -0.04913 -0.003 -0.03802 0.01157 C -0.03003 0.02498 -0.021 0.03701 -0.00902 0.04903 C 0.02691 0.08765 0.06285 0.105 0.07292 0.08904 C 0.08195 0.07285 0.06198 0.02891 0.02587 -0.00832 C 0.01094 -0.02428 -0.00503 -0.0363 -0.01805 -0.0444 C -0.03003 -0.05249 -0.04514 -0.05897 -0.06111 -0.06313 C -0.10503 -0.07631 -0.14305 -0.07238 -0.146 -0.05111 C -0.15 -0.03099 -0.11701 -0.00439 -0.07309 0.00902 C -0.05312 0.01434 -0.03402 0.01689 -0.01909 0.0155 C -0.00607 0.0155 0.00799 0.01296 0.02292 0.00902 C 0.06684 -0.00439 0.1 -0.03237 0.09584 -0.05249 C 0.09289 -0.07238 0.05486 -0.0777 0.01094 -0.06429 C -0.01007 -0.05781 -0.02916 -0.04833 -0.04201 -0.03769 C -0.05312 -0.02983 -0.06406 -0.02035 -0.07604 -0.00832 C -0.11111 0.0303 -0.13211 0.07285 -0.12205 0.08904 C -0.11302 0.105 -0.07604 0.08765 -0.04114 0.05019 C -0.02413 0.03169 -0.01007 0.01296 -0.00208 -0.00439 Z">
                                      <p:cBhvr>
                                        <p:cTn id="6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228600" y="914400"/>
            <a:ext cx="8686800" cy="9067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379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bout the sto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as a bo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was a slave so he was not allowed to know there 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and his siblings worked in the big house where his boss li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morning Henry's master call and tolled him he was going to work for his 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r that day he left to work for his son in a tobacco 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as a man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got married and had three k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morning one of Henry’s friend told your family was s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an out side and saw slaves going a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ould not sing ever ag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7964640" y="5989680"/>
            <a:ext cx="117936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-0.00324 L -1.17709 -0.01433 E">
                                      <p:cBhvr>
                                        <p:cTn id="12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fter Henry’s family lef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was sad because his family l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nted to go to a place where there are no sl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one day he put he self in a crate and was shipped to the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16:46Z</dcterms:created>
  <dc:creator>test</dc:creator>
  <dc:description/>
  <dc:language>en-US</dc:language>
  <cp:lastModifiedBy>test</cp:lastModifiedBy>
  <dcterms:modified xsi:type="dcterms:W3CDTF">2011-03-30T18:07:52Z</dcterms:modified>
  <cp:revision>10</cp:revision>
  <dc:subject/>
  <dc:title>Slide 1</dc:title>
</cp:coreProperties>
</file>